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4B1-EB16-4FEC-B134-8D47DCE0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9A13-2BDD-4637-815B-A828AF5E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FC9-6B4B-457E-8E5D-2034D7A6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342-5E70-4F74-A736-6CAA7555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402-6F6B-4699-BCC4-97A9CC4A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AE7-7A45-47E4-839A-3375F6CB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D6C-C265-411E-820A-1B5B1505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678-4A0E-4357-AA25-8EE78E1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070-4697-495F-AB9D-70C3A08B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868-458A-4F24-BC74-ADA1784F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43D-C1ED-4958-8638-F5D12EF5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9F5-9610-4089-AE0F-B135899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A09-09DC-45AD-B347-5D37A1A4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BA0-E476-4408-92AE-337A9147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0EA-E2C9-43EE-91E7-2E880579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preet Vi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 llamo Katrina Belang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ivo en Astoria, N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tengo quince añ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, tengo herman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oy simpactica y 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3440"/>
            <a:ext cx="1957680" cy="2060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¿De don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, graci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50:18Z</dcterms:created>
  <dc:creator>FriscoISD</dc:creator>
  <dc:description/>
  <dc:language>en-US</dc:language>
  <cp:lastModifiedBy>NYCDOE</cp:lastModifiedBy>
  <dcterms:modified xsi:type="dcterms:W3CDTF">2012-12-03T14:06:50Z</dcterms:modified>
  <cp:revision>102</cp:revision>
  <dc:subject/>
  <dc:title>Profile</dc:title>
</cp:coreProperties>
</file>